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06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en-US" sz="8000" spc="-1" strike="noStrike">
                <a:solidFill>
                  <a:srgbClr val="ffffff"/>
                </a:solidFill>
                <a:latin typeface="Chalkboard"/>
              </a:rPr>
              <a:t>Lemon Battery</a:t>
            </a:r>
            <a:endParaRPr b="0" lang="en-US" sz="8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0360" y="5205240"/>
            <a:ext cx="10482480" cy="146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eam Get S.E.T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8940960" y="9067680"/>
            <a:ext cx="3759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halkboard"/>
                <a:ea typeface="Chalkboard"/>
              </a:rPr>
              <a:t>Fourth Grade Standards </a:t>
            </a:r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53" name="Picture 1" descr="lemon_nail_penny.jpg"/>
          <p:cNvPicPr/>
          <p:nvPr/>
        </p:nvPicPr>
        <p:blipFill>
          <a:blip r:embed="rId1"/>
          <a:stretch/>
        </p:blipFill>
        <p:spPr>
          <a:xfrm>
            <a:off x="933480" y="3571920"/>
            <a:ext cx="237636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Electrod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269720" y="2286000"/>
            <a:ext cx="10464840" cy="63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883080" indent="-43020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  <a:p>
            <a:pPr marL="883080" indent="-430200"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ffffff"/>
                </a:solidFill>
                <a:uFillTx/>
                <a:latin typeface="Chalkboard"/>
              </a:rPr>
              <a:t>Definition: </a:t>
            </a:r>
            <a:r>
              <a:rPr b="0" lang="en-US" sz="4500" spc="-1" strike="noStrike">
                <a:solidFill>
                  <a:srgbClr val="ffffff"/>
                </a:solidFill>
                <a:latin typeface="Chalkboard"/>
              </a:rPr>
              <a:t>a conductor through which electricity enters or leaves an object.</a:t>
            </a: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  <a:p>
            <a:pPr marL="883080" indent="-430200"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halkboard"/>
              </a:rPr>
              <a:t>In this activity, the penny and screw are also known as </a:t>
            </a:r>
            <a:r>
              <a:rPr b="1" lang="en-US" sz="4500" spc="-1" strike="noStrike" u="sng">
                <a:solidFill>
                  <a:srgbClr val="ffff00"/>
                </a:solidFill>
                <a:uFillTx/>
                <a:latin typeface="Chalkboard"/>
              </a:rPr>
              <a:t>electrodes</a:t>
            </a:r>
            <a:r>
              <a:rPr b="0" lang="en-US" sz="4500" spc="-1" strike="noStrike">
                <a:solidFill>
                  <a:srgbClr val="ffffff"/>
                </a:solidFill>
                <a:latin typeface="Chalkboard"/>
              </a:rPr>
              <a:t>, because electricity can enter or leave them. </a:t>
            </a: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  <a:p>
            <a:pPr marL="883080" indent="-43020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hy it Work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11360" y="1599840"/>
            <a:ext cx="1188720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7000"/>
          </a:bodyPr>
          <a:p>
            <a:pPr marL="59760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marL="59760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marL="59760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marL="59760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marL="59760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marL="59760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marL="59760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marL="597600" indent="-29124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The lemon juice has the ability to create electricity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marL="597600" indent="-291240"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The penny and screw have the ability to transfer electricity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marL="59760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marL="59760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marL="59760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marL="59760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marL="59760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marL="59760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marL="59760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hy it Work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1752480"/>
            <a:ext cx="11887200" cy="746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</a:rPr>
              <a:t>When the lemon juice, penny and screw are connected to each other, the different material allows current to be transferred to each other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</a:rPr>
              <a:t>When an LED light is connected to both the penny and the screw, they transfer the current to the LED light, making it turn on. 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977760" y="2514240"/>
            <a:ext cx="1154448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We are going to show you how electrical energy can be changed into light by using: 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lemon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wir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penni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screw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LED light 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0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Today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9720" y="2742840"/>
            <a:ext cx="10464840" cy="426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First, let’s get in a circle and talk about current and  circuits.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97160" y="3047760"/>
            <a:ext cx="1046448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Now, let’s create a lemon battery!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1219320"/>
            <a:ext cx="10464840" cy="383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Make sure to follow our steps!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8" name="Rectangle 2"/>
          <p:cNvSpPr/>
          <p:nvPr/>
        </p:nvSpPr>
        <p:spPr>
          <a:xfrm>
            <a:off x="1270080" y="5867280"/>
            <a:ext cx="104648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892080" indent="-43488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If you have any questions, please ask your group leaders 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hat is the Purpose? 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44160" y="2057400"/>
            <a:ext cx="10464840" cy="403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halkboard"/>
              </a:rPr>
              <a:t>To build simple series and parallel circuits using wires and bulbs.</a:t>
            </a:r>
            <a:endParaRPr b="0" lang="en-US" sz="3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halkboard"/>
              </a:rPr>
              <a:t>To show that electrical energy can be converted into light.</a:t>
            </a:r>
            <a:endParaRPr b="0" lang="en-US" sz="3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56" name="Picture 12" descr="http://img.ehowcdn.com/article-new/ehow/images/a04/t1/4a/make-lemon-powered-light-bulb-800x800.jpg"/>
          <p:cNvPicPr/>
          <p:nvPr/>
        </p:nvPicPr>
        <p:blipFill>
          <a:blip r:embed="rId3"/>
          <a:stretch/>
        </p:blipFill>
        <p:spPr>
          <a:xfrm>
            <a:off x="8026560" y="5715000"/>
            <a:ext cx="4105080" cy="35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alifornia State Standard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98040" y="2666880"/>
            <a:ext cx="610884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Physical Science: 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lvl="1" marL="1409760" indent="-406440"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Electricity has many useful applications in everyday life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59" name="Picture 8" descr="http://room119.files.wordpress.com/2008/10/electricity.gif"/>
          <p:cNvPicPr/>
          <p:nvPr/>
        </p:nvPicPr>
        <p:blipFill>
          <a:blip r:embed="rId3"/>
          <a:stretch/>
        </p:blipFill>
        <p:spPr>
          <a:xfrm>
            <a:off x="7112160" y="3200400"/>
            <a:ext cx="4933800" cy="53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an you give me an example of...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34040" y="3708000"/>
            <a:ext cx="6438960" cy="314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Electricity in this classroom?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462" name="Group 5"/>
          <p:cNvGrpSpPr/>
          <p:nvPr/>
        </p:nvGrpSpPr>
        <p:grpSpPr>
          <a:xfrm>
            <a:off x="1015920" y="3962520"/>
            <a:ext cx="4559400" cy="2869920"/>
            <a:chOff x="1015920" y="3962520"/>
            <a:chExt cx="4559400" cy="2869920"/>
          </a:xfrm>
        </p:grpSpPr>
        <p:pic>
          <p:nvPicPr>
            <p:cNvPr id="463" name="Picture 3" descr=""/>
            <p:cNvPicPr/>
            <p:nvPr/>
          </p:nvPicPr>
          <p:blipFill>
            <a:blip r:embed="rId2"/>
            <a:stretch/>
          </p:blipFill>
          <p:spPr>
            <a:xfrm>
              <a:off x="1073160" y="4019400"/>
              <a:ext cx="4441680" cy="275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" descr=""/>
            <p:cNvPicPr/>
            <p:nvPr/>
          </p:nvPicPr>
          <p:blipFill>
            <a:blip r:embed="rId3"/>
            <a:stretch/>
          </p:blipFill>
          <p:spPr>
            <a:xfrm>
              <a:off x="1015920" y="3962520"/>
              <a:ext cx="4559400" cy="2869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A Few Example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68560" y="2870280"/>
            <a:ext cx="6324480" cy="467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Of Electricity: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computer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telephon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light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0">
              <a:spcBef>
                <a:spcPts val="29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7" name="Picture 3" descr=""/>
          <p:cNvPicPr/>
          <p:nvPr/>
        </p:nvPicPr>
        <p:blipFill>
          <a:blip r:embed="rId5"/>
          <a:stretch/>
        </p:blipFill>
        <p:spPr>
          <a:xfrm>
            <a:off x="8458200" y="3162240"/>
            <a:ext cx="3772080" cy="37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hy it Work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336760" y="1600200"/>
            <a:ext cx="911880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83844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  <a:p>
            <a:pPr marL="83844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  <a:p>
            <a:pPr marL="838440" indent="-40860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halkboard"/>
              </a:rPr>
              <a:t>Important Components: </a:t>
            </a: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  <a:p>
            <a:pPr lvl="1" marL="1351800" indent="-408600"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halkboard"/>
              </a:rPr>
              <a:t>Electrolytes</a:t>
            </a: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  <a:p>
            <a:pPr lvl="1" marL="1351800" indent="-408600"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halkboard"/>
              </a:rPr>
              <a:t>Conductors</a:t>
            </a: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  <a:p>
            <a:pPr lvl="1" marL="1351800" indent="-408600"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halkboard"/>
              </a:rPr>
              <a:t>Electrodes</a:t>
            </a: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  <a:p>
            <a:pPr lvl="1" marL="1351800" indent="-408600"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halkboard"/>
              </a:rPr>
              <a:t>Electric Current</a:t>
            </a: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  <a:p>
            <a:pPr lvl="1" marL="1351800" indent="-408600"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halkboard"/>
              </a:rPr>
              <a:t>Complete Circuit </a:t>
            </a: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  <a:p>
            <a:pPr lvl="1" marL="1351800" indent="0">
              <a:spcBef>
                <a:spcPts val="29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351800" indent="0">
              <a:spcBef>
                <a:spcPts val="29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351800" indent="0"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Electrolyt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269720" y="1752120"/>
            <a:ext cx="10464840" cy="708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ffffff"/>
                </a:solidFill>
                <a:uFillTx/>
                <a:latin typeface="Chalkboard"/>
              </a:rPr>
              <a:t>Definition: </a:t>
            </a:r>
            <a:r>
              <a:rPr b="0" lang="en-US" sz="4500" spc="-1" strike="noStrike">
                <a:solidFill>
                  <a:srgbClr val="ffffff"/>
                </a:solidFill>
                <a:latin typeface="Chalkboard"/>
              </a:rPr>
              <a:t>a solution that makes electricity.</a:t>
            </a: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halkboard"/>
              </a:rPr>
              <a:t>In this activity, the lemon juice inside the lemon is an </a:t>
            </a:r>
            <a:r>
              <a:rPr b="1" lang="en-US" sz="4500" spc="-1" strike="noStrike" u="sng">
                <a:solidFill>
                  <a:srgbClr val="ffff00"/>
                </a:solidFill>
                <a:uFillTx/>
                <a:latin typeface="Chalkboard"/>
              </a:rPr>
              <a:t>electrolyte</a:t>
            </a:r>
            <a:r>
              <a:rPr b="0" lang="en-US" sz="4500" spc="-1" strike="noStrike">
                <a:solidFill>
                  <a:srgbClr val="ffffff"/>
                </a:solidFill>
                <a:latin typeface="Chalkboard"/>
              </a:rPr>
              <a:t>, because it makes electricity!</a:t>
            </a: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halkboard"/>
              </a:rPr>
              <a:t>What are other examples of electrolytes? </a:t>
            </a: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Example of Electrolyte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269720" y="2742840"/>
            <a:ext cx="10464840" cy="396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883080" indent="-43020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  <a:p>
            <a:pPr marL="883080" indent="-430200"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halkboard"/>
              </a:rPr>
              <a:t>Gatorade</a:t>
            </a:r>
            <a:r>
              <a:rPr b="0" lang="en-US" sz="4500" spc="-1" strike="noStrike" u="sng">
                <a:solidFill>
                  <a:srgbClr val="ffffff"/>
                </a:solidFill>
                <a:uFillTx/>
                <a:latin typeface="Chalkboard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  <a:p>
            <a:pPr marL="883080" indent="-430200"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halkboard"/>
              </a:rPr>
              <a:t>Sweat</a:t>
            </a: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  <a:p>
            <a:pPr marL="883080" indent="-430200"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halkboard"/>
              </a:rPr>
              <a:t>Bleach </a:t>
            </a: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74" name="Picture 2" descr="http://gatoradeflavors.com/wp-content/uploads/2011/08/gatorade-flavors.jpg"/>
          <p:cNvPicPr/>
          <p:nvPr/>
        </p:nvPicPr>
        <p:blipFill>
          <a:blip r:embed="rId5"/>
          <a:stretch/>
        </p:blipFill>
        <p:spPr>
          <a:xfrm>
            <a:off x="6959520" y="3124080"/>
            <a:ext cx="499104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onductor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269720" y="2286000"/>
            <a:ext cx="10464840" cy="63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ffffff"/>
                </a:solidFill>
                <a:uFillTx/>
                <a:latin typeface="Chalkboard"/>
              </a:rPr>
              <a:t>Definition: </a:t>
            </a:r>
            <a:r>
              <a:rPr b="0" lang="en-US" sz="4500" spc="-1" strike="noStrike">
                <a:solidFill>
                  <a:srgbClr val="ffffff"/>
                </a:solidFill>
                <a:latin typeface="Chalkboard"/>
              </a:rPr>
              <a:t>a material that allows free flow of electricity.</a:t>
            </a: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halkboard"/>
              </a:rPr>
              <a:t>In this activity, the penny and the screw are known as </a:t>
            </a:r>
            <a:r>
              <a:rPr b="1" lang="en-US" sz="4500" spc="-1" strike="noStrike" u="sng">
                <a:solidFill>
                  <a:srgbClr val="ffff00"/>
                </a:solidFill>
                <a:uFillTx/>
                <a:latin typeface="Chalkboard"/>
              </a:rPr>
              <a:t>conductors</a:t>
            </a:r>
            <a:r>
              <a:rPr b="0" lang="en-US" sz="4500" spc="-1" strike="noStrike">
                <a:solidFill>
                  <a:srgbClr val="ffffff"/>
                </a:solidFill>
                <a:latin typeface="Chalkboard"/>
              </a:rPr>
              <a:t>, because it allow electricity to flow in them!</a:t>
            </a: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uzy Robles</cp:lastModifiedBy>
  <dcterms:modified xsi:type="dcterms:W3CDTF">2012-04-12T00:52:56Z</dcterms:modified>
  <cp:revision>10</cp:revision>
  <dc:subject/>
  <dc:title>Simple Motor</dc:title>
</cp:coreProperties>
</file>